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8AD9-DA47-4C88-AC98-18B254D8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E9CB-0142-4910-B868-E829ECDB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8A02-1AAB-4E42-BBAE-42DAE2E55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5D76-D214-4106-90BD-0FD75443B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5D43-8E0B-44DE-B21F-D4412D5F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F0A6-83B7-455E-A648-F522972F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7063-07EA-4991-A92E-59757DA1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81C5-342F-49FC-8C9F-6C10E164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1829-6C5E-459D-9703-BEE47985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F0A7-14BA-42E8-8959-04A1FB72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3C36-2AE6-4314-8C01-CD6CEF9B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CB2D-9EAD-4F8D-A0A4-C4D4BD03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5AC2-B2C2-451A-8188-729D5775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2C02-A6EF-46A5-AEAD-FB12F62D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2942-E0AF-47C8-9EC0-BCBF2242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3506-F6B2-40E9-AB18-92B1AA1F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ED40-D7AD-48F6-AFE3-627F1BC9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3DA1-B628-455D-BD59-004EBF5A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F00A-ED16-418D-B81B-D773AE1A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5863-F7B4-460A-9C04-884FE85A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62FC-A9CD-427E-A7B7-9AA020AA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7B24-6411-439F-87FC-749D77F2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9EC6-089B-4478-A0BD-A05BACFA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5044-EAAC-47F4-844B-5C404CA8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775E-4D2C-4E01-9904-4FE88DCAF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9412-3091-4D81-B6E5-2C3434DCFF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086360" y="0"/>
            <a:ext cx="50576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4920" y="0"/>
            <a:ext cx="3504960" cy="113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صَعِدتَ إلى العُلى وسبيتَ السبيَ وأعطيتَ عطايا أيها الإله        الله معنا وهو إلهُ التخليص وللرب السيدِ مخارجُ المو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733920" y="-119160"/>
            <a:ext cx="5410080" cy="7096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04920" y="380880"/>
            <a:ext cx="2971800" cy="11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قدّمَ المُغنونَ وخلفهم ناقروا الأوتار    في وَسطِ عذارى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نقُرن الدفو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flipV="1" rot="10800000">
            <a:off x="0" y="5961600"/>
            <a:ext cx="914544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يا ممالكَ الأرضِ رنموا لله أشيدوا للسي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0T06:52:37Z</dcterms:created>
  <dc:creator>HANI SAFI</dc:creator>
  <dc:description/>
  <dc:language>en-US</dc:language>
  <cp:lastModifiedBy>HANI SAFI</cp:lastModifiedBy>
  <dcterms:modified xsi:type="dcterms:W3CDTF">2003-05-30T06:58:48Z</dcterms:modified>
  <cp:revision>1</cp:revision>
  <dc:subject/>
  <dc:title>Slide 1</dc:title>
</cp:coreProperties>
</file>